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296-B00D-45F7-9382-C5AF559D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EE3-9F6D-4D4D-9555-C8C11C95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8FDCF-E0EF-4577-B2D6-B408F3E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5FBF2-1130-4271-9DEE-2270AADB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6F6E3-06C0-4D5D-BA4F-4FAB6145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175BE-828A-4D05-9225-497F6BC0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C8FC1-74F5-409C-AE2E-1DB54E17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1BA20-3DFD-4CEF-BE1A-17081712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7A89F-36ED-405C-B93B-7766890F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C8BD2-96EF-4C15-84E3-F1996865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29D7C-996C-40EA-97CC-9E2DD52A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C57C1-A5DB-4A6E-BB5E-36D241E1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779-D35E-4727-AF57-BEBA469E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A17C5-6349-41E7-B0C9-E6EF8D8B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0109F-B834-4EBB-B102-F1A9F8E6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B4524-A390-4940-B8A8-DDF94067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D6A76-A83F-4B35-9573-4BFFAD95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53846-EE74-46A1-9CEF-BB3F4FD6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E7C6C-2C2C-4F47-B963-47173C51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34D67-B6FA-4DC7-A275-6F948D49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BE921-2B41-46C2-BE05-D2E44979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446AC-6D36-4A18-9E6C-D8A6AEA7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A365F-6C47-4B0C-B6AC-156E0FF0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137-46F6-4701-BF09-FE1DECDB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CA8AD-0C50-4D4F-AF69-E36EA760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85B5-FB5F-4E9C-9CE1-8B9D8D35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9255-2B60-4DC2-A7B8-F272F9C9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D3B3-CF45-486C-AF44-53D8100C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06FC-1B5A-4531-AF8D-A74BB197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8120-AC44-49D9-9C1A-F2EB1CAD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F048-0CE7-4AA8-90CC-8888FD0A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4135-CE04-4FD5-AE64-B88A3899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293-09BC-447D-A311-03311517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1A06-8EE9-43DB-B648-BCF873A7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D05C-12E7-4B12-BD5D-245C2313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87C4-E572-44F7-BDE7-174D1C29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907D-DA2D-4521-A149-8A2E3E44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E58E-118C-447D-80FC-5D48EF9B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A0225-D780-4988-903D-0611B16D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73E0-16C7-4D75-AC09-E04993C2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C386D-C83D-4232-9D6D-EB0FBEC6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6C43-8AD1-4C54-AB23-D402920C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B63D-010C-4B01-A12B-11DBACAD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EAB-E5A4-4976-8F9C-C718A246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84B16-B65B-4100-928A-37E0B579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64C9-7704-47BE-BD22-D784D3BA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079EB-E534-4993-8534-3DEB9254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6F13-70F2-4248-B891-7B2BB170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C82D-08C6-42A1-A02D-687EC9A7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F74E-8941-42FD-889C-B7611AC2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93995-BCDE-4EEA-BECA-5AAF234D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BE227-269E-4434-9355-18A040DB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66C5A-55B3-472B-8DCD-7DB55C3C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E21E-5C17-4A8D-B661-2C933D52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FB2-5896-4B94-A81D-94734D37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DCA9-7642-4E8B-8B51-B3E6BDEA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FE56A-7386-4FD7-92B1-ED00B870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3835B-0FD7-4684-BACC-293FA6D1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0A1F2-066B-4F86-B250-227A74C6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25C98-719C-4FA1-A483-4D60A632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6408D-7F1A-4634-A56D-929CAF2E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0BEB9-9687-45F7-8BDD-2574098F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C824D-037D-4AE0-838A-31C24121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2FF5-437D-4ABC-91EB-19ECE507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DD370-85B5-464E-A98C-9549AED1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085-8266-4DDF-9782-6FBD674C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C77DA-C301-41BA-BFDB-F598D0C7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D560E-00B5-4EC4-8CF1-4C3F539C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EA09D-380A-4D8E-9F24-6FE525C2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4946-811E-442A-8CA9-F7CF2612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4F694-E94F-484C-A733-73DDD495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D9E63-0477-4D0F-A6CF-B1166E6A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AABEB-E5F4-4F50-9C93-D5E2DEFD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66FD-A43F-42FA-BA71-4BFBDA77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BF334-425F-40BE-83FD-061302DA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4F348-2988-485E-AA7F-75D529E2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D72-28A0-4AB5-918D-F5F45711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83DFB-1B99-44EF-B7A6-8FF5CC9B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1FB86-6C81-45A1-8575-AAA560F8B7C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826127-9446-4203-A72C-F424132CAA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D7716-8CEB-4DED-908F-4A74B14E3ED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125BE-3E27-480C-B40A-89BC0A8A4D0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84CE2-27C2-46A3-80C6-062517A1C5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6FD17-8ED2-46C6-8EFD-9D681437CAA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9C75A-7DF0-4839-A33B-6FD859F8A42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937A6-9509-4FA0-843A-8126A1F84FB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961FF-2A04-444F-94CA-B3B34984E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B13-493E-420D-BA52-1641FD61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69978-59DC-413D-A29B-D82E55B773B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2FB73E-075D-4ABB-A931-0F77E57F61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6D0F5-F41A-4E57-8A0F-229693CE96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9899F1-E8E2-4869-8731-355329C0D8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CE5B2A-2CEE-4B0C-A02A-F1065373A4A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680C2F-71B2-4C3E-A858-1AF9B71F02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397F73-5E77-4F1D-8BC5-054610562D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CAC06C-B053-476D-9276-2254644DA22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0CE4BB-7803-4BEB-8051-66EABDDF1E2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451920-6BFC-4496-82C4-D19895B96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8BA-D173-4963-9CD7-0BD0B403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DB86BC-5AFC-4642-8EAD-5D3E48EE7F2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F39E9B-0509-4E92-A38A-BD56146BFB3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0F729A-9115-4AB2-95CE-86CB719E831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4056DB-E749-452E-AFDC-DD0071331AF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6DC850-66A4-48ED-A205-969CD903AF1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580DE1-F1B2-4B79-AEA7-9F76CAD0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07B66D-951E-4EF2-B6BB-77BFBED5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815A34-25D6-401D-A39F-CAB6FF2E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0617BB-D671-42CD-969F-1A4EC119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A3EBF5-0E62-4411-A2EC-D7F385A5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DF4-98D6-4EAE-BE80-EBC2693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DF8ED3-E02B-43E1-A914-0DE2864A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981DEC-0FC1-4215-9D20-C8BFAFD2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88C8F7-B8EE-4C84-ADC1-08930A54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57E6E9-481E-4C78-82D6-0187BF18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3A1B95-4613-44C8-9E8B-1DEDB1DD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2E19AF-6AA8-49E1-9466-234F114C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71B8EF-1084-4138-8355-C4EEFB4B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D70B6-40FD-4281-A2DB-62838A0E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86294-01CA-48FE-BDBC-37E68AAB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C6BAB-5E8B-4381-8918-D9C5D124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E421F42-6C4A-4BD3-8F45-F5387BF46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0A7CAC8-6BB2-441B-9662-DAA5434A5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4E07B1D-07EF-4567-99DA-375ECBB5E7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504D66D-F86B-4437-8B15-17F417BE08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942ADBE-57C8-41EB-A587-F4A5AE898D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303CC7E-5965-4DFA-820D-32D3E38C03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6DD551D-AE1F-4F3C-A0CB-3E3237E7C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8AEA12F-E91A-4026-9A91-0DA45B45E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7933c"/>
                </a:solidFill>
                <a:latin typeface="Kalinga"/>
                <a:ea typeface="Kalinga"/>
              </a:rPr>
              <a:t>Monopoly</a:t>
            </a:r>
            <a:endParaRPr b="0" lang="en-US" sz="6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E48A753-6649-485D-A7F5-A3182B7EB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" descr="ftp://ftp.eppg.com/Sayre%20Micro%20images/Chapter%2010/SAYRE-MICRO-10-F10-1.jpg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3562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46040" y="4678200"/>
            <a:ext cx="802800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increase sales, a monopolist is forced to reduce price not just on the last units sold, but on the whole of its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ftp://ftp.eppg.com/Sayre%20Micro%20images/Chapter%2010/SAYRE-MICRO-10-F10-2.jpg"/>
          <p:cNvPicPr/>
          <p:nvPr/>
        </p:nvPicPr>
        <p:blipFill>
          <a:blip r:embed="rId1"/>
          <a:stretch/>
        </p:blipFill>
        <p:spPr>
          <a:xfrm>
            <a:off x="439560" y="0"/>
            <a:ext cx="8036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revenue is maximized when the marginal revenue is zer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onopolist will produce only where the demand is elasti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183144C-8F41-4665-B0C6-E38720E326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B5B36A8-BA82-448E-8997-004CC3707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882720" y="1233360"/>
            <a:ext cx="737856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87FBF5F-299B-4E93-ADCB-B49D52887A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882720" y="1244520"/>
            <a:ext cx="737856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10"/>
          <p:cNvSpPr/>
          <p:nvPr/>
        </p:nvSpPr>
        <p:spPr>
          <a:xfrm>
            <a:off x="925560" y="3252960"/>
            <a:ext cx="7154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Marginal revenu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:  $18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50 is $750 (15 x $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48 is $768 (16 x $48)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xtra unit produces extra total revenue of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18 ($768 – $7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Elasticity: e   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% D Q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1/15.5 x 100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6.5%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=  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1.59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% D P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2/49   x 10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4.1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aximum profit is where the difference between total revenue (TR) and total cost (TC) is greatest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is shown on the total profit curve, where it occurs at the highest point.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also occurs where the slope of TR (same as MR) equals the slope of TC (same as MC)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break-even points occur where total revenue and cost are the sam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E5ABA1F-EDC3-45DD-BBC5-9AFECF325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ftp://ftp.eppg.com/Sayre%20Micro%20images/Chapter%2010/SAYRE-MICRO-10-T10-2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17348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538FCAB-2D67-441F-A98B-D6E65E077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2" descr="ftp://ftp.eppg.com/Sayre%20Micro%20images/Chapter%2010/SAYRE-MICRO-10-F10-3.jpg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D07676F-ADF7-4DD3-85FB-9B301C56B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60452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s are maximized (or losses minimized) at an output where M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 profit maximization rule as perfectly competitive firm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634F8DD-DC8B-425D-AEE4-278904BC1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CEA6EB7-A67C-4F90-83DD-EC1B22A81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2" descr="ftp://ftp.eppg.com/Sayre%20Micro%20images/Chapter%2010/SAYRE-MICRO-10-T10-3.jpg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459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1:  Define a monopoly, explain how they come into existence and why they must reduce their prices to sell more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2:  Understand how the profit-maximizing output and price are determined for a monopolist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3:  Explain five grounds on which monopolies can be criticiz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4:  Explain the significant difference between monopoly and perfect competition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E24541B-0613-44C0-AEB8-868E91AC0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B038715-CA70-4A40-820B-1ED0CE31EE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2" descr="ftp://ftp.eppg.com/Sayre%20Micro%20images/Chapter%2010/SAYRE-MICRO-10-F10-4.jpg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s are not always profit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ends on costs – if AC curve is higher than the demand curve at all output levels, will have a lo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minimize loss using the profit maximization r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E7D2D4F-116E-4AE8-85E2-3C2D9861FB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inimizing Los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5829CB1-4571-4679-A113-81BB289FA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2" descr="ftp://ftp.eppg.com/Sayre%20Micro%20images/Chapter%2010/SAYRE-MICRO-10-F10-5.jpg"/>
          <p:cNvPicPr/>
          <p:nvPr/>
        </p:nvPicPr>
        <p:blipFill>
          <a:blip r:embed="rId1"/>
          <a:stretch/>
        </p:blipFill>
        <p:spPr>
          <a:xfrm>
            <a:off x="0" y="1022400"/>
            <a:ext cx="9144000" cy="40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215D52B-347C-45CA-9614-13ABD7BD9D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9D642F3-5EA0-4317-8373-70D9AD9A4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914400" y="5572080"/>
            <a:ext cx="71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reak-even (TR=TC) occur 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fit-maximizing output occurs at an output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make economic profits indefinite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both productively and allocatively ineffici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 less and charge a higher price than a competitive industr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eating a more unequal distribution of income and wealth within societ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ing their power to practice price discrimin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21F8916-486D-4AD4-8C80-7AEBE3ABD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iticisms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D50ED1E-FEDE-469B-A71C-911BDF590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F9A7E82-18BC-4873-A2C8-EB9094AF6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0"/>
          <p:cNvSpPr/>
          <p:nvPr/>
        </p:nvSpPr>
        <p:spPr>
          <a:xfrm>
            <a:off x="3827520" y="4538520"/>
            <a:ext cx="405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9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($15 x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Box 8"/>
          <p:cNvSpPr/>
          <p:nvPr/>
        </p:nvSpPr>
        <p:spPr>
          <a:xfrm>
            <a:off x="1268280" y="5902200"/>
            <a:ext cx="631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105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($20 + $19 + $18 + $17 + $16 + $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charge higher prices than perfectly competitive firm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produce lower outputs than perfectly competitive firms and these outputs are below economic capacity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, unlike perfectly competitive firms, may make economic profits in the short run and in the long ru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3A3D179-712F-4BD9-8B1D-1523C00BFC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604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erfect Competition v Monopo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1877357-5708-42BE-90D7-6A1366B441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2" descr="ftp://ftp.eppg.com/Sayre%20Micro%20images/Chapter%2010/SAYRE-MICRO-10-F10-7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5:  Explain three grounds on which monopolies can be defend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6:  Discuss ways that governments can change the behaviour of monopolies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B7EBD60-6A35-49E7-9D8D-74A1230BE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56F1205-8204-4121-906F-F3E54E486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ftp://ftp.eppg.com/Sayre%20Micro%20images/Chapter%2010/SAYRE-MICRO-10-F10-8.jpg"/>
          <p:cNvPicPr/>
          <p:nvPr/>
        </p:nvPicPr>
        <p:blipFill>
          <a:blip r:embed="rId1"/>
          <a:stretch/>
        </p:blipFill>
        <p:spPr>
          <a:xfrm>
            <a:off x="0" y="0"/>
            <a:ext cx="8102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AE05F6F-1B3C-4CA6-9BA8-FF1B396812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A621F9A-DB70-4203-A6FB-3A806802E4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10"/>
          <p:cNvSpPr/>
          <p:nvPr/>
        </p:nvSpPr>
        <p:spPr>
          <a:xfrm>
            <a:off x="5040360" y="2793960"/>
            <a:ext cx="35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3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  <p:sp>
        <p:nvSpPr>
          <p:cNvPr id="586" name="Straight Connector 9"/>
          <p:cNvSpPr/>
          <p:nvPr/>
        </p:nvSpPr>
        <p:spPr>
          <a:xfrm>
            <a:off x="1084320" y="1935000"/>
            <a:ext cx="1711440" cy="331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traight Connector 13"/>
          <p:cNvSpPr/>
          <p:nvPr/>
        </p:nvSpPr>
        <p:spPr>
          <a:xfrm flipV="1">
            <a:off x="2179800" y="2828880"/>
            <a:ext cx="0" cy="12542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4"/>
          <p:cNvSpPr/>
          <p:nvPr/>
        </p:nvSpPr>
        <p:spPr>
          <a:xfrm>
            <a:off x="2093760" y="2732040"/>
            <a:ext cx="18108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5"/>
          <p:cNvSpPr/>
          <p:nvPr/>
        </p:nvSpPr>
        <p:spPr>
          <a:xfrm>
            <a:off x="5049720" y="4846680"/>
            <a:ext cx="35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4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6"/>
          <p:cNvSpPr/>
          <p:nvPr/>
        </p:nvSpPr>
        <p:spPr>
          <a:xfrm>
            <a:off x="2714760" y="3341520"/>
            <a:ext cx="18072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capture large economies of scale in produc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engage in extensive research and development into new techniques of production and new product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attract high-quality staff by offering relatively high wages and good working condition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C58279E-8817-4D1F-AFDF-2697C5A13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fence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le producer who is able to produce at a lower cost than competing firms cou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ually in a market with large economies of sca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D1F650A-4189-4BA5-AD57-F3120AB9A2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Natural 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9D4BFA4-BDF7-4375-9493-DB0E42A8E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2" descr="ftp://ftp.eppg.com/Sayre%20Micro%20images/Chapter%2010/SAYRE-MICRO-10-F10-9.jpg"/>
          <p:cNvPicPr/>
          <p:nvPr/>
        </p:nvPicPr>
        <p:blipFill>
          <a:blip r:embed="rId1"/>
          <a:srcRect l="0" t="0" r="27406" b="0"/>
          <a:stretch/>
        </p:blipFill>
        <p:spPr>
          <a:xfrm>
            <a:off x="0" y="6382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s or services regarded as essential and therefore usually provided by governmen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on may well be costly and wastefu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E44D560-BFA7-4E15-9C04-DFE45256EF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ublic Utilit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51FAAA5-B2EA-466E-B341-00FC431720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1E9EE98-C713-4D77-8111-706F753B8B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0"/>
          <p:cNvSpPr/>
          <p:nvPr/>
        </p:nvSpPr>
        <p:spPr>
          <a:xfrm>
            <a:off x="584280" y="4854600"/>
            <a:ext cx="819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t $1.50 the quantity demanded is 100 000, or 50 000 each.  The average cost of servicing 50 000 riders is $2.50.  This means that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ach company would lose $1.00 for each fare, for a total loss of $50 00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per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o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ing the monopoli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price sett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tion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A018D10-8556-4E2B-85D0-B890D1CE4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Contro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arket in which a single firm (the monopolist) is the sole produc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ed from new competitors by barriers to entr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Barriers to Entr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stacles that make it difficult for new participants to enter a mark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08E52C4-FA35-41B0-ADC9-97B98D986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ump sum Profit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fects fixed cost but not variable cos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average cost but marginal cost is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put and price levels are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profit (due to higher costs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C270D34-0C96-4110-BFBB-9E3B3CF8A4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5189999-0C0A-409B-A3D0-F1DAA8361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4" descr="ftp://ftp.eppg.com/Sayre%20Micro%20images/Chapter%2010/SAYRE-MICRO-10-F10-1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1679400"/>
            <a:ext cx="8229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Sale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 on each unit so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marginal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ing point shif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 of the tax is shifted to consumer in the form of higher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quantity is pro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’s profit is re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EE940C2-D14F-4600-B8CC-00B33F48D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36FA0C5-3D29-4A9E-9056-A54850DE8B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2" descr="ftp://ftp.eppg.com/Sayre%20Micro%20images/Chapter%2010/SAYRE-MICRO-10-F10-11.jpg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ocially Optimum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ice that produces the best allocation of products (and therefore resources) from society’s point of view, that is,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Fair-Return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ce that guarantees that the firm will earn normal profits only, that is, where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4E960EB-A686-46E4-A9B8-895EB1AD1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Price Setting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0597387-262D-4721-BCE0-0859B6B59E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ftp://ftp.eppg.com/Sayre%20Micro%20images/Chapter%2010/SAYRE-MICRO-10-F10-12.jpg"/>
          <p:cNvPicPr/>
          <p:nvPr/>
        </p:nvPicPr>
        <p:blipFill>
          <a:blip r:embed="rId1"/>
          <a:stretch/>
        </p:blipFill>
        <p:spPr>
          <a:xfrm>
            <a:off x="0" y="693720"/>
            <a:ext cx="8920080" cy="55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59E94C6-7AC5-4CA6-8F9D-F986E772AF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2" descr="ftp://ftp.eppg.com/Sayre%20Micro%20images/Chapter%2010/SAYRE-MICRO-10-p323.jpg"/>
          <p:cNvPicPr/>
          <p:nvPr/>
        </p:nvPicPr>
        <p:blipFill>
          <a:blip r:embed="rId1"/>
          <a:stretch/>
        </p:blipFill>
        <p:spPr>
          <a:xfrm>
            <a:off x="4221000" y="1604880"/>
            <a:ext cx="468000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0126DB1-7099-47B3-A539-8E3C28261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2" descr="MicroAK1_ST3"/>
          <p:cNvPicPr/>
          <p:nvPr/>
        </p:nvPicPr>
        <p:blipFill>
          <a:blip r:embed="rId1"/>
          <a:stretch/>
        </p:blipFill>
        <p:spPr>
          <a:xfrm>
            <a:off x="4125960" y="1573200"/>
            <a:ext cx="4592520" cy="346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49A83A0-6DE8-4FC5-8EC2-518D5AB1D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ypes of barriers to entr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ation for a monopolis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iticism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ence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s that governments can control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955880"/>
            <a:ext cx="803736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chnic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sole ownership of a resour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g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public franchise, licences, patents, and copyrigh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conomic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aused b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62FB873-264C-4468-B75C-0B9B791462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arriers to Entr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54E341A-AFD6-4ACA-951F-3DC05B280C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E18E303-AF4F-4D4C-AC1A-F4464D1CE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1839960" y="296712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echnical barrier (sole ownership of a resour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1843200" y="368316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conomic barrier (economies of sca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1"/>
          <p:cNvSpPr/>
          <p:nvPr/>
        </p:nvSpPr>
        <p:spPr>
          <a:xfrm>
            <a:off x="1822320" y="441648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legal barrier (licence fee requ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set price rather than having to accept the market-determined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set either price or quantity sold, but not bo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the monopolist is the industry, it faces the market demand for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mand is a downward-sloping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decrease the price in order to sell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ED251B8-9867-4F0F-AF21-5B24A121CF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8596513-B583-401A-9402-013CE1D04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2" descr="ftp://ftp.eppg.com/Sayre%20Micro%20images/Chapter%2010/SAYRE-MICRO-10-T10-1.jpg"/>
          <p:cNvPicPr/>
          <p:nvPr/>
        </p:nvPicPr>
        <p:blipFill>
          <a:blip r:embed="rId1"/>
          <a:stretch/>
        </p:blipFill>
        <p:spPr>
          <a:xfrm>
            <a:off x="0" y="696960"/>
            <a:ext cx="9144000" cy="406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7:25Z</dcterms:modified>
  <cp:revision>313</cp:revision>
  <dc:subject/>
  <dc:title>Slide 1</dc:title>
</cp:coreProperties>
</file>